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CC3-999A-496C-B749-9DF1CE50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A61-9A65-4CFC-AB9F-A92CA514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323-26D0-42CC-BC89-3555B99F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734-CAD4-4195-8117-2EC054AF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6C31-FC11-4D97-B304-DC0B7F07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2BFF-0E99-4A5E-8CD2-32258773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D986-A2AF-4314-AA3A-EF43C523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0D0C-C44C-4DA2-BDBB-0CF743CE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BB24-2DB1-4992-96FB-A7F24868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0E41-0167-49B2-803A-DFCCFFB6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241F-FC0B-4E58-BEB4-6DAA9628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B77-50CF-41F5-B4D5-30128A83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FC37-694D-4481-9A34-90DDF096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24F4-A589-410B-B877-D1B0BB1E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2B7F-34AE-4FE1-919D-E5ED5760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85A0-8D96-4BFC-8C70-0BF5CB14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4F34-87A8-45F5-8670-95DB696C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B89-426B-44F2-92EE-A97E38B0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345-F4E9-4738-A7CF-F638CABF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A76-0A4A-49EB-9B7E-CDFDF770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A13-8C46-4328-9DB7-EE0B3E7B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A2C-7C88-40B5-8DE7-6378A9CA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67E-DD3E-45E0-B199-38D18976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6A8-B758-40DB-BF71-761A8E78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2122-B62B-4488-8ACD-91A6918E36B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26A2-C4FE-4CA9-83B2-B958E60570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 H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op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osing effective 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s Cited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le and Unreliable Qu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our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e today: 2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a partner, answer the following questions for each of your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is the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did you get it fro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it have a da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tit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genre of writing is thi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py HW due FRIDA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reliable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e journals for each source w/ 2 quo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s Cited Entry for e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s Practice: Re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p. 23 of LA You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p. 614-615 in Literature Books, create the Works Cited Ent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thesis below, find 3 quotes that support the thesis.  Create a response journal for the quo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is: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order to prevent teen pregnancy, adults should place an emphasis on sex education and the reality behind being a teen m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down 3 questions you have for Gabby about her situ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any sources that Gabrielle refers to in her paper.  How did these sources support her stan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cratic Discuss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search Pape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liable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Written Reliable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ary vide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s media cl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 inter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reliab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mand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ure you can identify the type of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5:02:15Z</dcterms:created>
  <dc:creator>Tucker</dc:creator>
  <dc:description/>
  <dc:language>en-US</dc:language>
  <cp:lastModifiedBy>Tucker</cp:lastModifiedBy>
  <dcterms:modified xsi:type="dcterms:W3CDTF">2010-05-13T20:29:04Z</dcterms:modified>
  <cp:revision>2</cp:revision>
  <dc:subject/>
  <dc:title>Slide 1</dc:title>
</cp:coreProperties>
</file>